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0D81-1085-4E61-8128-A0134CE6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D44-40E4-4D3E-9F47-A39DC08D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83D-D7FF-40DA-B002-7EC0AD44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25C-DAED-46F6-9913-3BE7B475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E31F-874B-479E-BA06-8039D251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A50-466C-4F9C-BF55-456E085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027-F37C-49C9-A4F9-C8037E1F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2A1-57C3-472A-AA4B-4C10EFB1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4E1-0F59-48CA-A5CE-828C8B94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F435-AC63-4C6D-91BD-9D63B0F9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FBF-E609-4D16-A2B9-58D6E410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0E1-78AF-4EE3-856E-256574FE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D8D4-A723-4FAD-9A79-D12E0FD75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 here with ca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9480"/>
            <a:ext cx="457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ss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7:23:45Z</dcterms:created>
  <dc:creator>Judith M Paradis</dc:creator>
  <dc:description/>
  <dc:language>en-US</dc:language>
  <cp:lastModifiedBy>Judith M Paradis</cp:lastModifiedBy>
  <dcterms:modified xsi:type="dcterms:W3CDTF">2007-12-20T20:15:27Z</dcterms:modified>
  <cp:revision>1</cp:revision>
  <dc:subject/>
  <dc:title>Slide 1</dc:title>
</cp:coreProperties>
</file>